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49E6B-5013-40F9-9997-0E32DE77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D3BFB-697C-42F5-8783-01CB9813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A86FF-8184-4FDC-AB72-6687F302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0BE0C-FB80-457C-97EC-ADCDC1AD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1C80-FB33-4C5F-8C93-B6D502AB3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42AF-0421-4A15-8763-C49D36DA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5D5C-C1AC-4564-BA01-FCF282DA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0F37-314C-45E0-BF4F-270A9526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0AF4-D431-4C01-9383-1315EE29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398B-21CB-4810-AEE7-2C21E502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EF4D-B5BC-41AC-9EBD-9DCF496F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AF0D3-E1E0-4509-ABF9-D6BA3024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A239-E242-4771-993F-8CC506C9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35B2-9AA8-45F3-AF78-D1656B71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32AD-C713-47D5-9D68-5E2F0C03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31B0-5BD3-4DAD-8754-C9E6758E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7A75-1DB8-497F-BF05-CF390F274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A4EC2-F9F6-4D55-9FD6-2797E4CF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56C19-62DC-4C4C-980C-671B3C65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A9A41-319B-4ABA-BDAC-AFD7F3E9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48A91-4CB1-4E70-8DAC-5831F8BC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DD918-8CF0-4360-B3C5-1EB7727D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F57BE-70BD-4BF8-B429-02F113A8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3638C-AA05-4411-932B-7B40EFD2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BEFF-07DF-4D06-ABD9-85B75901FC4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2318-13C8-46FF-B3D6-D2C699561F9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39492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7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8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валете Бога от днес до век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люлката дори до смърт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ез цял живот ние с хваления нек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величаем наший Бог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рце мен ново Той дар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с блясък чуден озар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181080" y="1097280"/>
            <a:ext cx="932508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лилуя, алилуя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у хвала, алилуя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759600"/>
            <a:ext cx="91440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лажен, блажен е тоз, който бъд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Бога крепко защитен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който с вяра в Христа пребъде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зло не ще е уязвен.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Бога ти се довер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Той подкрепа ще ти дари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181080" y="1097280"/>
            <a:ext cx="932508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лилуя, алилуя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у хвала, алилуя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181080" y="122040"/>
            <a:ext cx="93250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валете всички святото им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наший Бог, единствен Цар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с химни да Му благодариме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е дал ни е божествен дар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уха Си Свят ни подар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душа ни мир Той въдвори!</a:t>
            </a:r>
            <a:br>
              <a:rPr sz="4000"/>
            </a:br>
            <a:br>
              <a:rPr sz="44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181080" y="1097280"/>
            <a:ext cx="932508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лилуя, алилуя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у хвала, алилуя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2-01-14T07:38:09Z</dcterms:modified>
  <cp:revision>12</cp:revision>
  <dc:subject/>
  <dc:title>Slide 1</dc:title>
</cp:coreProperties>
</file>